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F06-F761-4D86-B176-515C74C6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2FF-66CD-4706-939F-5CA21099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C3B2-1D4D-455B-BD81-807A55F9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368-9EBA-44C4-B006-2DA6D096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7900-9BF5-4840-81B8-6565CDA1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4287-FD59-46C1-A5DF-2178BCC6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5172-7C66-4023-9EF6-D5DC2CC1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B900-A160-4404-91E9-5A859ECD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0403-DE65-4EF8-A298-5A17FB06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200F-3A63-49B1-AD74-B2C25EE6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FD3A-8AE0-4139-8E6C-3B3EF8DA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F5F-3BF8-4E7F-91A9-9A914511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CCC2-0FBA-43D9-B1D2-FC22AD3E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BF45-8F62-4045-981F-D884129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92AF-00F7-4187-A374-5B422548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0BA1-0CE3-4EEC-9DE1-71AC4309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B13E-E4AB-4476-91AA-F280D56D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FF29-D58B-44B4-A047-6954D615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E08E2-45AA-48A5-9ADC-AC2BDD08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CE111-4FAB-4419-AD51-8CFF2A27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F4891-D027-4C34-A628-CE5AD1EB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BD1FF-36DD-4CD5-A854-5A53F443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97B7-C587-4C0F-86F7-B4A91DAD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6B2AB-07D1-4A9D-BC97-10E1E09D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11D5F-A404-4CE6-809B-DFD9633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92286-5503-43A6-BE79-6E9E4B2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17A66-1BC0-4BEB-B4CE-9EF539A4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0B7D-34C2-4B09-AD0B-FAB9749B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AF5F-471E-4051-929A-B6D3BA80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04E8-CC22-4C85-8E05-CE38EB25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8CC1-1A77-4289-BF71-5C7CFB40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549D-1A81-4219-8DCA-FFE05999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6BE-65E9-4925-B3C0-4BD0441A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151-7338-4C80-857B-5FB73FA7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A46-F9B6-45EC-B7CB-77BCB235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C94-5577-41D6-9C38-22A9632D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3A65-581D-4A7D-A246-2796C8934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685A-21A6-455B-BC76-E08C55D5EE9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3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7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4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49FE-1198-44FB-A13E-AA78317ABA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6"/>
          <p:cNvSpPr/>
          <p:nvPr/>
        </p:nvSpPr>
        <p:spPr>
          <a:xfrm>
            <a:off x="1295280" y="3871800"/>
            <a:ext cx="708660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ОРОФАЦИЈАЛНИ БО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1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0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Тематске јединице: 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Cambria"/>
              </a:rPr>
              <a:t>Дијагноза и диференцијална дијагноз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Cambria"/>
              </a:rPr>
              <a:t>Терапиј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447920" y="54100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Cambria"/>
              </a:rPr>
              <a:t>Доц др Слободан Лончарев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1501560" y="685800"/>
            <a:ext cx="57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</a:rPr>
              <a:t>ФАКУЛТЕТ МЕДИЦИНСКИХ НАУ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ambria"/>
              </a:rPr>
              <a:t>УНИВЕРЗИТЕТ У КРАГУЈЕВ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13" descr="memo grb copy"/>
          <p:cNvPicPr/>
          <p:nvPr/>
        </p:nvPicPr>
        <p:blipFill>
          <a:blip r:embed="rId1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201" name="TextBox 9"/>
          <p:cNvSpPr/>
          <p:nvPr/>
        </p:nvSpPr>
        <p:spPr>
          <a:xfrm>
            <a:off x="609480" y="1523880"/>
            <a:ext cx="7620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Cambria"/>
              </a:rPr>
              <a:t>Болна дисфункција темпоромандибуларног зглоба –</a:t>
            </a: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 дијагноза и </a:t>
            </a:r>
            <a:r>
              <a:rPr b="1" lang="fr-FR" sz="4000" spc="-1" strike="noStrike">
                <a:solidFill>
                  <a:srgbClr val="ffffff"/>
                </a:solidFill>
                <a:latin typeface="Cambria"/>
              </a:rPr>
              <a:t> терапиј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КЛИНИЧКИ ПРЕГЛЕД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лини</a:t>
            </a:r>
            <a:r>
              <a:rPr b="1" lang="sr-CS" sz="28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им прегледом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 могу осетити интермедијарне крепитације и терминално пуцкетање,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ли њих може и да не буде. Звуци трења и интермедијарне крепитације указују на оште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ње зглобне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главице и дискус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не су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јне за пацијента, али нису за околин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ерминалне крепитације које су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јне и за пацијента и за околину, ти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п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е су за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тзв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ублуксацију доњовили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ог зглоб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КЛИНИЧКИ СИМПТОМИ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имптоми који указују на ова обољења су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олови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понтани, у пределу лица, врата, слепоо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ом пределу и при покрету доње вилиц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и палпацији зглоба и при палпацији мастикаторних инфра и супрахиоидних миш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,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ао и миш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 врата и раменог појас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и гутању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понтани или при покретима меког непца и језик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тежано отварање уста које се описује као огран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ни покрети доње вилице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евијација доње вилице при отварању уста у хоризонталном или вертикалном правцу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-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репитације и шкљоцање у зглобовим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мет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њ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 при покретима затварања уст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олови у ушима и разне сметње у пределу ух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мет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њ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 у гутању пљува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е и осе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ј пе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њ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 у устим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есвестице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КЛИНИЧКИ ПРЕГЛЕД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оналне миоартропатије раније или касније доводе до огр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ња покрета у предел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а, тако да је максимално отварање уста испод 3 цм, пр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у може, а и не мора, д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ијације мандибуле у страну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ог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ст латералних покрета доње вилице је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о један од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а миоартропатија. Нормално, при најлатералнијем покрету доње вилице, б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положај износ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мм. Присутне крепитације у зглобовима, девијација мандибуле и сметње при латерални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има не морају увек бити пр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е субјективним тегобама, што зн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да се још ради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нзованој сметњи стоматогнатног систем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ови на палпацију у пределу зглоба, болов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околини зглоба, као и огр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о и болно отварање уста, даљи су знаци миоартропатиј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ов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миш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 на палпацију, као и свих мастикаторних миш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, а та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 и акцесорних миш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врата,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гуран су знак миоартропатије. Што је више миш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захв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о болом, то је и слика болести тежа 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нут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КЛИНИЧКИ ПРЕГЛЕД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тоји м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собни однос изме</a:t>
            </a:r>
            <a:r>
              <a:rPr b="0" lang="sr-RS" sz="2400" spc="-1" strike="noStrike">
                <a:solidFill>
                  <a:srgbClr val="ffffff"/>
                </a:solidFill>
                <a:latin typeface="Verdan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 налаза на миш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ма и порем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ја оклузије и девијациј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ндибуле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ко преовладава бол у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.pterygoideus lateralis,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једнострано или обострано, зн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 д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стоји оклузална сметња у пределу фронталних зуба или о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њака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ол у пределу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m. masseter-а</a:t>
            </a:r>
            <a:r>
              <a:rPr b="0" i="1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стаје услед порем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ја оклузије у пределу молара. Ако постоје болови у пределу субокципиталних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иш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, то је знак тешких порем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ја оклузије у пределу молар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КЛИНИЧКИ ПРЕГЛЕД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лпаторни налаз нам даје податке о конзистенцији миши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. Овај налаз је нај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ш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 у пределу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асетера и темпоралиса услед њихове некомпресибилност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орновата, на додир болна миогелоза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е нај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ш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 налази на предњој ивици масетера и задњем трбуху дигастрикуса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У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терноклеидомастоидеусу 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орови се налазе у доњој тре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ини, близу клавикуле и стернум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КЛИНИЧКИ ПРЕГЛЕД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91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Тригер зона је мала циркумскриптна, врло осетљива болна зона у миофацијалном ткиву, из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које се јављају аферентни импулси ка централном нервном систему, условљавају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и еферентну појаву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бола, односна бола на удаљеном месту од тригер зоне у којем се појављује бол хипералгезије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и миши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ни спазам.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Механизам настанка миофацијалног тригер механизма није ни данас</a:t>
            </a:r>
            <a:r>
              <a:rPr b="1" lang="sr-C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потпуно разјашњен.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Као предиспонирају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е факторе за настанак миофацијалног тригер механизма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Травел наводи: изненадну трауму мускулатуре, неуоби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ајене покрете, имобилизацију, хрони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на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миши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на напрезања, акутне висцералне лезије, замор, нервну напрегнутост, менопаузу и др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Хрони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на миши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на напрезања у пределу мастикаторне мускулатуре могу бити изазвана шкрипањем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и стискањем зуба, што наро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ито долази до изражаја код психи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ких и емоционално оптере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ених</a:t>
            </a:r>
            <a:r>
              <a:rPr b="0" lang="sr-C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пацијената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КЛИНИЧКИ ПРЕГЛЕД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егобе у пределу уха иш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завају блокирањем тригер зоне у масетер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ом миш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Болови у пределу главе и врата говоре о појави тригер зоне у пределу темпоралног миш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 трапезијус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ртоглавица може бити изазвана тригер зоном у стерноклеидомастоидном миш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, што ј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равел описао као стерноклеидомастоидни синдро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итиском руке на тригер зону пацијент не мора по правилу и увек да ос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 бол у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ројекционом пределу. Много поузданији н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н утвр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вања је апликација анестезије у миш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н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оји се сумња и бол би требало да престане тренутно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иференцијална дијаг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ада у клини</a:t>
            </a:r>
            <a:r>
              <a:rPr b="0" lang="sr-CS" sz="32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ој симптоматологији у првом плану постоје девијације доње вилице при</a:t>
            </a:r>
            <a:r>
              <a:rPr b="0" lang="sr-C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варању уста, као и сметње у покретима доње вилице, што може бити пра</a:t>
            </a:r>
            <a:r>
              <a:rPr b="0" lang="sr-CS" sz="32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ено крепитацијама,</a:t>
            </a:r>
            <a:r>
              <a:rPr b="0" lang="sr-C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стоји велика могу</a:t>
            </a:r>
            <a:r>
              <a:rPr b="0" lang="sr-CS" sz="32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ост да је у питању функционална миоартропатиј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Диференцијална дијагно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олови који се шире у предео лица и врата, захтевају да се искљу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 следе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 обољењ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.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еуралгија тригеминуса проузрокује нај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ш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 краткотрајне болове у интервалима, кој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огу да се механ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и провоцирају, у пределу зоне тригеминуса (бријање, умивање, узимање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хране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игрена као неуроваскуларна дисрегулација се јавља не ретко у интервалима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оузрокују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 бол половине главе, који траје један до два дана и за разлику од миоартропатије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а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н је општом малаксалош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ртеритис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а. temporalis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оузрокује бол у таласима, евентуално и оток у пределу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емпоралне региј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Цервикални синдром са дегенеративним обољењем к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умори у пределу вилица и орби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.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умори малог мозга и понс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0504d"/>
                </a:solidFill>
                <a:latin typeface="Arial"/>
              </a:rPr>
              <a:t>ДИЈАГНОЗА</a:t>
            </a:r>
            <a:endParaRPr b="0" lang="en-US" sz="44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504d"/>
                </a:solidFill>
                <a:latin typeface="Arial"/>
              </a:rPr>
              <a:t>Ртг снимци при отвореним и затвореним усти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504d"/>
                </a:solidFill>
                <a:latin typeface="Arial"/>
              </a:rPr>
              <a:t>Ортопантомогтафски сним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504d"/>
                </a:solidFill>
                <a:latin typeface="Arial"/>
              </a:rPr>
              <a:t>ЦТ диј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504d"/>
                </a:solidFill>
                <a:latin typeface="Arial"/>
              </a:rPr>
              <a:t>М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2238480" y="3938760"/>
            <a:ext cx="4665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"/>
          <p:cNvSpPr/>
          <p:nvPr/>
        </p:nvSpPr>
        <p:spPr>
          <a:xfrm>
            <a:off x="457200" y="380880"/>
            <a:ext cx="8305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на дисфункција темпоромандибуларно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а –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ијагноза и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ерап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физиолошки аспекти орофацијалног бола, Бол темпоромандибуларног зглоба (101-114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силофацијална хирургија, Обољења доњовиличног зглоба (10 - 1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cecff"/>
                </a:solidFill>
                <a:latin typeface="Arial"/>
              </a:rPr>
              <a:t>ЛЕЧЕЊЕ ТЕМПОРОМАНДИБУЛАРНИХ ДИСФУНКЦИЈ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Лечење се темељи на физикалној терапији, лековима и употреби оклузалних </a:t>
            </a:r>
            <a:r>
              <a:rPr b="0" lang="sr-CS" sz="1800" spc="-1" strike="noStrike">
                <a:solidFill>
                  <a:srgbClr val="ffffff"/>
                </a:solidFill>
                <a:latin typeface="Verdana"/>
              </a:rPr>
              <a:t>сплинтова</a:t>
            </a: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Физикална терапија се дели на ону која смањује бол и на ону која побољшава функциј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Физикална терапија против бола се темељи на стављању влажних и топлих облога, у трајању од 10-15 минута не дуже од 30 минута, како би се побољшала циркулација што регенери</a:t>
            </a:r>
            <a:r>
              <a:rPr b="0" lang="sr-CS" sz="1800" spc="-1" strike="noStrike">
                <a:solidFill>
                  <a:srgbClr val="ffffff"/>
                </a:solidFill>
                <a:latin typeface="Verdana"/>
              </a:rPr>
              <a:t>ше</a:t>
            </a: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 ткиво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Хладне облоге се држе док не настане безболност подручја, не дуже од 5-7 минута, па </a:t>
            </a:r>
            <a:r>
              <a:rPr b="0" lang="sr-CS" sz="1800" spc="-1" strike="noStrike">
                <a:solidFill>
                  <a:srgbClr val="ffffff"/>
                </a:solidFill>
                <a:latin typeface="Verdana"/>
              </a:rPr>
              <a:t>се </a:t>
            </a: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након неког времена понавља процес угрејавањ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Могу се још користити и спрејеви (етил клорид и флуорометан), примењују се са удаљености од 18 инча у трајању од 5 секунди. Спреј не сме доћи у очи, ухо, нос или уст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Фармаколошко лечење се базира на примени аналгетика попут нестероидних антиинфламаторних, а могу се користити и аспирин, ацетаминофен и ибупрофен у дози од 600-800 мг на дан. Антиинфламаторне лекове је потребно узимати 1-2 недеље како би постигли делотворне концентрације у крв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1f497d"/>
                </a:solidFill>
                <a:latin typeface="Arial"/>
              </a:rPr>
              <a:t>ЛЕЧЕЊЕ ТЕМПОРОМАНДИБУЛАРНИХ ДИСФУНКЦИЈА</a:t>
            </a:r>
            <a:endParaRPr b="0" lang="en-US" sz="32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53316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Оклузални сплинтови у 75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случајева редукују бол, али 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е </a:t>
            </a: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звучни симптоми и даље могу јављати и то није знак неуспеха терапиј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Код пацијената са хроничним ТМП, ова терапија се може употпунити са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психолошком потпоро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нпр. когнитивно-бихевиоралном терапијом, релаксационом терапијом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,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малим дозама трицикличних антидепрес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Хируршка терапија темпоромандибуларног бола никада није терапијска опциј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572000" y="3451320"/>
            <a:ext cx="3733920" cy="3025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3733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0" y="25560"/>
            <a:ext cx="9144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ји су карактеристични симптоми темпоромандибуларне дусфункциј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ји етиолошки фактори доводе до темпоромандибуларне дусфункциј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о се поставља дијагноза темпоромандибуларне дусфункциј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о се узима  анамнеза код сумње на темпоромандибуларну дусфункцију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о се обавља преглед код сумње на темпоромандибуларну дусфункцију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о се врши клинички преглед мастикаторних мишић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Шта су тригер зон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о се поставља диференцијална дијагноза темпоромандибуларне дусфункције и неуралгиј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о се поставља диференцијална дијагноза темпоромандибуларне дусфункције и мигрен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о се поставља диференцијална дијагноза темпоромандибуларне дусфункције и артритис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Који су принципи терапије темпоромандибуларне дисфункциј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што је терапија темпоромандибуларне дисфункције никада није хируршк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c000"/>
                </a:solidFill>
                <a:latin typeface="Cambria"/>
              </a:rPr>
              <a:t>ДИЈАГНОЗА ТЕМПОРОМАНДИБУЛАРНИХ ДИСФУНКЦИЈА</a:t>
            </a:r>
            <a:endParaRPr b="0" lang="en-US" sz="2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Cambria"/>
              </a:rPr>
              <a:t>Анамне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Cambria"/>
              </a:rPr>
              <a:t>Клинички прегле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Cambria"/>
              </a:rPr>
              <a:t>Радиографска испитива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2362320" y="3581280"/>
            <a:ext cx="48006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АНАМНЕЗ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на пацијената због пуцкетања у пределу зглобова и бола у пределу лица и уха, траж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п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мо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д стоматолога, оториноларинголога и неуролога. Врло 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сто се долази до података да он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 пределу једног или оба зглоба ос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ју пуцкетање при отварању уста, што касније прате болови пр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жвакању и јаком отварању уста. Понекада пуцкетање иш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зне, али се појаве болови, што зн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 д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је дуже време постојала</a:t>
            </a:r>
            <a:r>
              <a:rPr b="0" lang="sr-Latn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омпензована инкоординација миш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 која је касније довела до ошт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њ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глобног ткив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АНАМНЕЗ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 питање "Где је и какав бол?' добијају се два карактерист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 одговора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једна група пацијената описује као место бола и показује прстом на предео зглоба. У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ом слу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ју се ради о тип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ом артрогеном болу који пот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 од зглоба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 друга група описује као туп бол који зра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 у предео образа, врата или угла доње вилице.То је тип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н миогени бо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ол који пот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 од зглоба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есто зра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 у предео уха, а може се појавити и при покретима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доње вилице (жвакање, гутање и говор), који касније прелази у спонтани бо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иши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и бол зра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 у слепоо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и предео, врат и поглавин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АНАМНЕЗ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Врло су важни подаци о времену појаве и трајању бола. Болови после бу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ња указују на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рафункцију или неповољан положај при спавању, као и бруксизам (преоптере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ње доње вилице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Болови који се поја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авају током дана и предве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е достижу свој максимум, указују на</a:t>
            </a:r>
            <a:r>
              <a:rPr b="0" lang="sr-C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арафункцију и психомоторну активност током дана, поготову на радном месту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АНАМНЕЗ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пределу уха се поред бола, добијају подаци да пацијент осе</a:t>
            </a:r>
            <a:r>
              <a:rPr b="0" lang="sr-CS" sz="32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а зујање у уху, да је ухо</a:t>
            </a:r>
            <a:r>
              <a:rPr b="0" lang="sr-C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ао запушено и да слабије </a:t>
            </a:r>
            <a:r>
              <a:rPr b="0" lang="sr-CS" sz="32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ј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ве те симптоме је описао Џемс Б. Костен (James B. Costen) 1934. године, што је</a:t>
            </a:r>
            <a:r>
              <a:rPr b="0" lang="sr-C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знато као Костенов синдром</a:t>
            </a:r>
            <a:r>
              <a:rPr b="0" lang="sr-C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АНАМНЕЗ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од великог броја миоартропатија псих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а преоптер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ност може играти велику каузалну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логу, те при узимању анамнезе треба обратити пажњу да ли је пацијент био псих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и преоптер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н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ије препору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љиво у првој сеанси захтевати све податке, али је могу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 поставити питања, нпр, о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лагању испита, промени посла, женидби, проблемима у браку, проблемима - сукобима на послу,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мртном слу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ју у породици, да ли пацијент ос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 "кнедлу" у грлу што говори у прилог стањ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петости миш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 усне дупље и супрахиоидних миш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. Нису ретке сензације које се пој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вају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током дана, сува уста и п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ње слузокоже уст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ccecff"/>
                </a:solidFill>
                <a:latin typeface="Arial"/>
              </a:rPr>
              <a:t>АНАМНЕЗ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уготрајна микротраума настала услед порем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не оклузије, тако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 игра зн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јну улогу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 настанку тегоба у пределу вил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их зглобова. Много пре долази до тегоба ако је микротраум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 склопу порем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них услова живота и односа м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 људима, када долази до порем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ја псих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ких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функција који условљавају општу генерализовану миш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у пренапрегнутост. Л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ње ових пацијената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отклањањем пореме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аја оклузије врло 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есто не решава проблем тегоба, а некада се стање и</a:t>
            </a:r>
            <a:r>
              <a:rPr b="0" lang="sr-C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огоршава и тада је потребан третман код неуролог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ki</cp:lastModifiedBy>
  <dcterms:modified xsi:type="dcterms:W3CDTF">2015-06-15T08:32:31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